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115-FCA1-4200-B9F5-99376848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B79-843D-45E3-A5D1-52D6286C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F44-57C6-4B4A-A48A-9C0E146F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5B3-C4A8-4F48-B618-E0077A7A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301B8-94EA-435D-BA22-5593B0E9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6A32B-904D-4B99-80E4-E2E9FD93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81C84-309C-4383-BF68-DC65AC1B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590D3-E475-41A7-8584-5DF80956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0AF5F-AB03-4BD9-9B56-CF82E77E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026F7-9E6B-44FC-B273-0B6BFFF3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F0635-E6F7-4E97-8F8A-E02B8822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222-F2FD-4EA7-970E-896020D2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89FF9-8937-4D23-9146-D771053F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628FA-D751-456A-A65F-F3D1A635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30A27-E2A8-44D3-AA36-A6C6FC49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7FAC0-C60F-4C72-B0B6-CE1B37C1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96077-F256-4702-92EA-D9C71F8B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23D-EDB1-4F55-839D-9953B98B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815-174D-4093-AE41-27B3BF2E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5CC-3D45-4468-9561-32EA122F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50B-FC02-46E9-8B17-5E233E68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35A-B27E-42BE-880B-F407E14D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7F0-F6BE-43CC-9D09-F04CDA9E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B4E-E682-42B1-B691-C6E10CAA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C102-A65A-44FC-9A20-5F2EFFB25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8AAD-8478-4641-B371-C90C2C0A1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deltaweb.co.uk/eagles/shows/silver01_16.jpg&amp;imgrefurl=http://www.deltaweb.co.uk/eagles/silver01_01.htm&amp;h=384&amp;w=512&amp;sz=107&amp;hl=en&amp;start=1&amp;tbnid=_p2dmy_6gLDPTM:&amp;tbnh=113&amp;tbnw=150&amp;prev=/images%3Fq%3Dformula%2Bone%2Bcars%26gbv%3D2%26svnum%3D10%26hl%3De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ationalspeedsportnews.com/photos/F1_Kimi_Race_McClaren.jpg&amp;imgrefurl=http://www.nationalspeedsportnews.com/finallap.html%3FIssueDate%3D1032321600&amp;h=327&amp;w=450&amp;sz=59&amp;hl=en&amp;start=13&amp;tbnid=pdaLOTrVFv0BxM:&amp;tbnh=92&amp;tbnw=127&amp;prev=/images%3Fq%3Dformula%2Bone%2Bcars%26gbv%3D2%26svnum%3D10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excel.com/NR/rdonlyres/4E6AB282-D66C-4C81-ADCB-35F01ABB609F/0/ferrari.jpg&amp;imgrefurl=http://www.hexcel.com/Markets/Automotive/Motorsport.htm&amp;h=260&amp;w=326&amp;sz=8&amp;hl=en&amp;start=16&amp;tbnid=kSJidmukZwX89M:&amp;tbnh=94&amp;tbnw=118&amp;prev=/images%3Fq%3Dformula%2Bone%2Bcars%26gbv%3D2%26svnum%3D10%26hl%3De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ev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 one race c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o f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very quick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m also builds a Formula On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0"/>
            <a:ext cx="388620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cts 2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gine sits in back of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m has to follow a set of rules to build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spension connects the wheels to the c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odywork covers the eng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 more interesting fac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 Prix races are about 190 miles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 One cars drive at about 200 miles per ho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enty cars race in a Grand Pri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it stops are only 5 seconds l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72080"/>
            <a:ext cx="2743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start to speed around the tr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mula One race is called a Grand Pri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river sits in the cockp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ack is curv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5680" y="3784680"/>
            <a:ext cx="4648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r has had an accid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clothes keep him safe from f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m in the pit gives the car more g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river’s car protected h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6:25:43Z</dcterms:created>
  <dc:creator>steven.lebreton</dc:creator>
  <dc:description/>
  <dc:language>en-US</dc:language>
  <cp:lastModifiedBy>steven.lebreton</cp:lastModifiedBy>
  <dcterms:modified xsi:type="dcterms:W3CDTF">2007-05-08T16:42:10Z</dcterms:modified>
  <cp:revision>5</cp:revision>
  <dc:subject/>
  <dc:title>Ste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